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57B-AD7A-419F-B9AF-ACD21A34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41A-E17E-4F8B-9AFC-69D2D70E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3A1-7F0D-4B66-A3E1-89F8A062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1A8-8C45-41C8-862B-CB0306F6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F421-E3EA-4A3A-AB0F-7E67426A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705B-8E6D-4882-ABBA-A6CDB4E8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E19E-3747-4A59-ABEF-85600FDC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2F29-DFB6-4B6F-B2C1-A80210F9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6949-A5D8-4501-B6F6-FB6D9256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0568-B2D7-4C6F-B75A-41D05816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E136-0D6D-433C-ABCD-6420F77E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550-1D33-490A-AAF6-419FF5B2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3A2F-F975-414F-AFA9-1102D94D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059C-1198-46DD-8592-0AF1F960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D3BC-2E9A-48EE-9771-A09584C1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88C0-043F-4AF9-B01D-56461600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5197-88CD-4F7C-AE3C-94F11468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5D12F-D501-4841-9B01-CCBF62DF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33F2B-B4A7-4FCE-A275-0BB0190D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72401-14B4-446B-A449-0BD73F06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C3B51-51BD-4747-9927-034C4AD7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0ADB-45E0-439D-B34D-E27FC3A5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9C6-BFC6-4189-8F19-32ADE6CA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28199-4D37-4157-8B81-AE1C768B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613FF-210D-4F86-BC55-E19D4F4D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B4AAB-E491-48A6-9565-E25C1A06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56D1C-7E8D-494A-9400-70531260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EF80-7009-4F98-801B-EFB0434B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2263-6455-4E4E-A6E2-9280DD26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203D-8691-48E8-9089-7399C1E2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F24AC-A17E-425B-A2BA-BA027057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9E74E-69BE-4010-BE38-36126EFA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12F72-7938-4617-B8D4-C23706EA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6BE6-8AD8-49B8-BD18-CD92826E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74869-2D47-4DAA-934F-ED952FF7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A2169-7971-4679-B642-D49A8CE4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B66DC-81F6-4BBF-A2FC-8EE8F950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FBD34-36CE-4438-8B40-A3608FFD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3C9CC-B2FF-4436-A44C-D56370C6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E8601-D180-49EC-A8EA-CE03A866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17AE3-F54F-47E1-A6A6-C2AB3EA7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4CBCA-5987-4989-A26F-7225D432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18FDD-5679-43A7-9A63-CDAB5140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49D0D-2065-4477-B600-DD742237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E20-DABB-4A4D-9A2E-5FE7C0D2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3D184-38E0-40B0-B4FB-4351A903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77538-0237-48C4-8945-0CEF7FF4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72B07-2968-4CF2-96E5-76229090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1264C-0CCB-4297-815F-185F41A2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8B6EA-E8C9-4168-B855-1BE9566E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F02D3-4AFE-4462-900E-07543580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3633A-63C9-4BC7-8DA5-50A2CDD8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C40DE-EE3C-4E31-B279-F237703B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3B5F2-CA14-49FD-8516-73A4DD87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DA47D-E72E-411C-9AA5-8BACD035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D49-3504-4E18-85BC-5A00B670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1321C-D559-44BD-9693-6A0964CC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4A7-DDD4-4A75-BB22-754D893E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7E5-1F26-4006-8502-CA936FCF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496-9CAF-4DD0-90AE-55401681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66D1-09C3-4FA0-8A2D-4B6D5B4EE70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6AFA-5041-4BAD-86A4-595CAEE63E5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FCB5-233A-46C4-8BA8-790C8A897B7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012E-EAA5-4373-8D38-5E4EAC906149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7C3A-B2B4-46E7-A113-9AC610308E2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5" descr=""/>
          <p:cNvPicPr/>
          <p:nvPr/>
        </p:nvPicPr>
        <p:blipFill>
          <a:blip r:embed="rId1"/>
          <a:stretch/>
        </p:blipFill>
        <p:spPr>
          <a:xfrm>
            <a:off x="2664000" y="1292400"/>
            <a:ext cx="6291000" cy="41083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7"/>
          <p:cNvSpPr/>
          <p:nvPr/>
        </p:nvSpPr>
        <p:spPr>
          <a:xfrm>
            <a:off x="3733920" y="4394160"/>
            <a:ext cx="914400" cy="10083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ccff"/>
                </a:solidFill>
                <a:latin typeface="Times New Roman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reaction between an acid and bas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products of a neutralization reaction are a salt and wate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pH scale gives a measure of the concentration of positive hydrogen ions in a solution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way of describing the acidic or basic strength of a solution.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acidity of a solution can be expressed by using the pH sca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scale ranges from 0 to 14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ids range from 0 to 6, with 0 being the strongest ac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ases range from 8 to 14, with 14 being the strongest bas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ure water, which is neither acid nor base, has a pH level of 7 or is neutr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0948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dicators are substances that visibly show a change in the nature of a chemical syste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niversal indicator- an acid/base indicator that shows, by color, the pH of a substanc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304920" y="3809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3657600" y="3809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74674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30"/>
          <p:cNvGrpSpPr/>
          <p:nvPr/>
        </p:nvGrpSpPr>
        <p:grpSpPr>
          <a:xfrm>
            <a:off x="4038480" y="2133720"/>
            <a:ext cx="519120" cy="1447560"/>
            <a:chOff x="4038480" y="2133720"/>
            <a:chExt cx="519120" cy="1447560"/>
          </a:xfrm>
        </p:grpSpPr>
        <p:sp>
          <p:nvSpPr>
            <p:cNvPr id="251" name="AutoShape 10"/>
            <p:cNvSpPr/>
            <p:nvPr/>
          </p:nvSpPr>
          <p:spPr>
            <a:xfrm>
              <a:off x="4038480" y="2133720"/>
              <a:ext cx="519120" cy="1447560"/>
            </a:xfrm>
            <a:prstGeom prst="flowChartMagneticDisk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18"/>
            <p:cNvSpPr/>
            <p:nvPr/>
          </p:nvSpPr>
          <p:spPr>
            <a:xfrm>
              <a:off x="4142160" y="272592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3" name="Group 31" descr=""/>
          <p:cNvPicPr/>
          <p:nvPr/>
        </p:nvPicPr>
        <p:blipFill>
          <a:blip r:embed="rId2"/>
          <a:stretch/>
        </p:blipFill>
        <p:spPr>
          <a:xfrm>
            <a:off x="4559400" y="2120760"/>
            <a:ext cx="542880" cy="1476360"/>
          </a:xfrm>
          <a:prstGeom prst="rect">
            <a:avLst/>
          </a:prstGeom>
          <a:ln w="0">
            <a:noFill/>
          </a:ln>
        </p:spPr>
      </p:pic>
      <p:pic>
        <p:nvPicPr>
          <p:cNvPr id="254" name="Group 32" descr=""/>
          <p:cNvPicPr/>
          <p:nvPr/>
        </p:nvPicPr>
        <p:blipFill>
          <a:blip r:embed="rId3"/>
          <a:stretch/>
        </p:blipFill>
        <p:spPr>
          <a:xfrm>
            <a:off x="5095800" y="2120760"/>
            <a:ext cx="579600" cy="1476360"/>
          </a:xfrm>
          <a:prstGeom prst="rect">
            <a:avLst/>
          </a:prstGeom>
          <a:ln w="0">
            <a:noFill/>
          </a:ln>
        </p:spPr>
      </p:pic>
      <p:pic>
        <p:nvPicPr>
          <p:cNvPr id="255" name="Group 33" descr=""/>
          <p:cNvPicPr/>
          <p:nvPr/>
        </p:nvPicPr>
        <p:blipFill>
          <a:blip r:embed="rId4"/>
          <a:stretch/>
        </p:blipFill>
        <p:spPr>
          <a:xfrm>
            <a:off x="5626080" y="2120760"/>
            <a:ext cx="635040" cy="1476360"/>
          </a:xfrm>
          <a:prstGeom prst="rect">
            <a:avLst/>
          </a:prstGeom>
          <a:ln w="0">
            <a:noFill/>
          </a:ln>
        </p:spPr>
      </p:pic>
      <p:pic>
        <p:nvPicPr>
          <p:cNvPr id="256" name="Group 29" descr=""/>
          <p:cNvPicPr/>
          <p:nvPr/>
        </p:nvPicPr>
        <p:blipFill>
          <a:blip r:embed="rId5"/>
          <a:stretch/>
        </p:blipFill>
        <p:spPr>
          <a:xfrm>
            <a:off x="3492360" y="2120760"/>
            <a:ext cx="543240" cy="1476360"/>
          </a:xfrm>
          <a:prstGeom prst="rect">
            <a:avLst/>
          </a:prstGeom>
          <a:ln w="0">
            <a:noFill/>
          </a:ln>
        </p:spPr>
      </p:pic>
      <p:pic>
        <p:nvPicPr>
          <p:cNvPr id="257" name="Group 28" descr=""/>
          <p:cNvPicPr/>
          <p:nvPr/>
        </p:nvPicPr>
        <p:blipFill>
          <a:blip r:embed="rId6"/>
          <a:stretch/>
        </p:blipFill>
        <p:spPr>
          <a:xfrm>
            <a:off x="2975040" y="2120760"/>
            <a:ext cx="542880" cy="1476360"/>
          </a:xfrm>
          <a:prstGeom prst="rect">
            <a:avLst/>
          </a:prstGeom>
          <a:ln w="0">
            <a:noFill/>
          </a:ln>
        </p:spPr>
      </p:pic>
      <p:pic>
        <p:nvPicPr>
          <p:cNvPr id="258" name="Group 27" descr=""/>
          <p:cNvPicPr/>
          <p:nvPr/>
        </p:nvPicPr>
        <p:blipFill>
          <a:blip r:embed="rId7"/>
          <a:stretch/>
        </p:blipFill>
        <p:spPr>
          <a:xfrm>
            <a:off x="2475000" y="2120760"/>
            <a:ext cx="549360" cy="1476360"/>
          </a:xfrm>
          <a:prstGeom prst="rect">
            <a:avLst/>
          </a:prstGeom>
          <a:ln w="0">
            <a:noFill/>
          </a:ln>
        </p:spPr>
      </p:pic>
      <p:pic>
        <p:nvPicPr>
          <p:cNvPr id="259" name="Group 26" descr=""/>
          <p:cNvPicPr/>
          <p:nvPr/>
        </p:nvPicPr>
        <p:blipFill>
          <a:blip r:embed="rId8"/>
          <a:stretch/>
        </p:blipFill>
        <p:spPr>
          <a:xfrm>
            <a:off x="1981080" y="2120760"/>
            <a:ext cx="549360" cy="1476360"/>
          </a:xfrm>
          <a:prstGeom prst="rect">
            <a:avLst/>
          </a:prstGeom>
          <a:ln w="0">
            <a:noFill/>
          </a:ln>
        </p:spPr>
      </p:pic>
      <p:pic>
        <p:nvPicPr>
          <p:cNvPr id="260" name="Group 33" descr=""/>
          <p:cNvPicPr/>
          <p:nvPr/>
        </p:nvPicPr>
        <p:blipFill>
          <a:blip r:embed="rId9"/>
          <a:stretch/>
        </p:blipFill>
        <p:spPr>
          <a:xfrm>
            <a:off x="6235560" y="2120760"/>
            <a:ext cx="635040" cy="1476360"/>
          </a:xfrm>
          <a:prstGeom prst="rect">
            <a:avLst/>
          </a:prstGeom>
          <a:ln w="0">
            <a:noFill/>
          </a:ln>
        </p:spPr>
      </p:pic>
      <p:pic>
        <p:nvPicPr>
          <p:cNvPr id="261" name="Group 33" descr=""/>
          <p:cNvPicPr/>
          <p:nvPr/>
        </p:nvPicPr>
        <p:blipFill>
          <a:blip r:embed="rId10"/>
          <a:stretch/>
        </p:blipFill>
        <p:spPr>
          <a:xfrm>
            <a:off x="6851520" y="2120760"/>
            <a:ext cx="635040" cy="1476360"/>
          </a:xfrm>
          <a:prstGeom prst="rect">
            <a:avLst/>
          </a:prstGeom>
          <a:ln w="0">
            <a:noFill/>
          </a:ln>
        </p:spPr>
      </p:pic>
      <p:pic>
        <p:nvPicPr>
          <p:cNvPr id="262" name="Group 33" descr=""/>
          <p:cNvPicPr/>
          <p:nvPr/>
        </p:nvPicPr>
        <p:blipFill>
          <a:blip r:embed="rId11"/>
          <a:stretch/>
        </p:blipFill>
        <p:spPr>
          <a:xfrm>
            <a:off x="7461360" y="2120760"/>
            <a:ext cx="6285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33"/>
          <p:cNvGrpSpPr/>
          <p:nvPr/>
        </p:nvGrpSpPr>
        <p:grpSpPr>
          <a:xfrm>
            <a:off x="8082000" y="2133720"/>
            <a:ext cx="604800" cy="1447560"/>
            <a:chOff x="8082000" y="2133720"/>
            <a:chExt cx="604800" cy="1447560"/>
          </a:xfrm>
        </p:grpSpPr>
        <p:sp>
          <p:nvSpPr>
            <p:cNvPr id="264" name="AutoShape 14"/>
            <p:cNvSpPr/>
            <p:nvPr/>
          </p:nvSpPr>
          <p:spPr>
            <a:xfrm>
              <a:off x="8082000" y="2133720"/>
              <a:ext cx="604800" cy="1447560"/>
            </a:xfrm>
            <a:prstGeom prst="flowChartMagneticDisk">
              <a:avLst/>
            </a:prstGeom>
            <a:solidFill>
              <a:srgbClr val="9842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8202600" y="2725920"/>
              <a:ext cx="42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6" name="Group 26" descr=""/>
          <p:cNvPicPr/>
          <p:nvPr/>
        </p:nvPicPr>
        <p:blipFill>
          <a:blip r:embed="rId12"/>
          <a:stretch/>
        </p:blipFill>
        <p:spPr>
          <a:xfrm>
            <a:off x="1438200" y="2120760"/>
            <a:ext cx="55584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26"/>
          <p:cNvGrpSpPr/>
          <p:nvPr/>
        </p:nvGrpSpPr>
        <p:grpSpPr>
          <a:xfrm>
            <a:off x="914400" y="2133720"/>
            <a:ext cx="533520" cy="1447560"/>
            <a:chOff x="914400" y="2133720"/>
            <a:chExt cx="533520" cy="1447560"/>
          </a:xfrm>
        </p:grpSpPr>
        <p:sp>
          <p:nvSpPr>
            <p:cNvPr id="268" name="AutoShape 7"/>
            <p:cNvSpPr/>
            <p:nvPr/>
          </p:nvSpPr>
          <p:spPr>
            <a:xfrm>
              <a:off x="914400" y="2133720"/>
              <a:ext cx="533520" cy="1447560"/>
            </a:xfrm>
            <a:prstGeom prst="flowChartMagneticDisk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1020960" y="2725920"/>
              <a:ext cx="320040" cy="368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0" name="Group 26" descr=""/>
          <p:cNvPicPr/>
          <p:nvPr/>
        </p:nvPicPr>
        <p:blipFill>
          <a:blip r:embed="rId13"/>
          <a:stretch/>
        </p:blipFill>
        <p:spPr>
          <a:xfrm>
            <a:off x="371520" y="2120760"/>
            <a:ext cx="5554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blogs.scientificamerican.com/lab-rat/files/2012/09/628px-PH_scale.png"/>
          <p:cNvPicPr/>
          <p:nvPr/>
        </p:nvPicPr>
        <p:blipFill>
          <a:blip r:embed="rId1"/>
          <a:stretch/>
        </p:blipFill>
        <p:spPr>
          <a:xfrm>
            <a:off x="479520" y="0"/>
            <a:ext cx="718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987480" y="66600"/>
            <a:ext cx="6315120" cy="1238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380520" y="1371600"/>
            <a:ext cx="7239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ynthes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wo or more elements or compounds may combine to form a more complex compound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sic form: A  +  X  →    AX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. 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2Mg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 +  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rebuchet MS"/>
              </a:rPr>
              <a:t>2(g)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 →    2Mg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composi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single compound breaks down into its component parts or simpler compound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sic form: AX  →   A  +  X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. Ca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3(s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→    Ca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+  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2(g)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835200" y="-36360"/>
            <a:ext cx="6791040" cy="1109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-360" y="1295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ingle Replacement: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a more active element takes the place of another element in a compound and sets the less active one free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sic form: A  +  BX  →    AX  +  B  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. 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+  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4(aq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→    Fe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4(aq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+  C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Double Replacement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parts of two compounds switch places to form two new compounds. Two reactants yield two new produc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.  AB + XY ---&gt; AY + XB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. NaCl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---&gt;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+ HCl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755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808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ids are chemicals in which the positive ion is a hydrogen at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Cl or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endParaRPr b="0" lang="en-US" sz="3600" spc="-1" strike="noStrike">
              <a:solidFill>
                <a:srgbClr val="6c6c6c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en mixed with water they produce a free hydrogen ion that combines with a water molecule to produce a hydronium ion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rebuchet MS"/>
              </a:rPr>
              <a:t>+1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rebuchet MS"/>
              </a:rPr>
              <a:t>+1</a:t>
            </a:r>
            <a:endParaRPr b="0" lang="en-US" sz="3600" spc="-1" strike="noStrike">
              <a:solidFill>
                <a:srgbClr val="6c6c6c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 acid is a substance that releases hydrogen ions when it breaks apart in wate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560"/>
            <a:ext cx="72388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te sou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act with metals to produce hydrog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2HCl + 2Na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2NaCl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duct electricit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ases are substances in which the negative ion is an ion called hydroxide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(OH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rebuchet MS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example;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aOH, or KOH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d to make soap, household cleaners, fertilizers, and explosives.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4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te bitt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eel slippe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duct electric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times Caustic. That is they eat away at certain substances and they are irritating or damaging to ski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alt is a compound formed from the positive metal ions of a base and a negative nonmetal ion of an aci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Cl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re the product of a reaction between an acid and a base, along with wat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4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y form crystals when in solid form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y usually have a higher hardness because of their ionic bonding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 acid plus a base yields a salt and wate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Cl + 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NaCl + HO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Cl + 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NaCl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8:55:24Z</dcterms:created>
  <dc:creator>Pat and Tina Hayhurst</dc:creator>
  <dc:description/>
  <dc:language>en-US</dc:language>
  <cp:lastModifiedBy>jcameron</cp:lastModifiedBy>
  <dcterms:modified xsi:type="dcterms:W3CDTF">2013-04-25T15:59:17Z</dcterms:modified>
  <cp:revision>54</cp:revision>
  <dc:subject/>
  <dc:title>Acids, Bases, Salts and 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joewalker.com/teachers/hayhurst</vt:lpwstr>
  </property>
  <property fmtid="{D5CDD505-2E9C-101B-9397-08002B2CF9AE}" pid="9" name="LinkColor">
    <vt:r8>16711680</vt:r8>
  </property>
  <property fmtid="{D5CDD505-2E9C-101B-9397-08002B2CF9AE}" pid="10" name="MailAddress">
    <vt:lpwstr>Hayhurst1@aol.com</vt:lpwstr>
  </property>
  <property fmtid="{D5CDD505-2E9C-101B-9397-08002B2CF9AE}" pid="11" name="NavBtnPos">
    <vt:r8>4</vt:r8>
  </property>
  <property fmtid="{D5CDD505-2E9C-101B-9397-08002B2CF9AE}" pid="12" name="Other">
    <vt:lpwstr>Copyright (c) 1999-2000 Pat Hayhurst
Last Updated: 3/9/2000</vt:lpwstr>
  </property>
  <property fmtid="{D5CDD505-2E9C-101B-9397-08002B2CF9AE}" pid="13" name="OutputDir">
    <vt:lpwstr>C:\My Documents\Web Page at JW\fruitvale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255</vt:r8>
  </property>
</Properties>
</file>